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69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© Mark E. Damon -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5867280" y="1508040"/>
            <a:ext cx="2514600" cy="472464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5943600" y="1492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943600" y="1812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943600" y="2117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422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943600" y="2727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943600" y="303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943600" y="3336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3600" y="3641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43600" y="3946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43600" y="4251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43600" y="4556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3600" y="486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43600" y="5165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5470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43600" y="577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781680" y="1508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8168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78168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8168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781680" y="2743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781680" y="3048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781680" y="3352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8168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8168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781680" y="426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781680" y="4572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81680" y="48769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81680" y="5181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81680" y="5486400"/>
            <a:ext cx="13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81680" y="5791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77120" y="5927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77120" y="5622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77120" y="5318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77120" y="5013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77120" y="4708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77120" y="4403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477120" y="4098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77120" y="3794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77120" y="3489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77120" y="3184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77120" y="2879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477120" y="2575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477120" y="2270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477120" y="1965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477120" y="1660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6360" y="2013120"/>
            <a:ext cx="525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elcome to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Who Wants to be a Millionai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952880" y="533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84872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0080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37200" y="67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 flipH="1" rot="10800000">
            <a:off x="6750000" y="565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 rot="5400000">
            <a:off x="8023320" y="800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099280" y="647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5400000">
            <a:off x="8327520" y="876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404200" y="723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8632440" y="799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709120" y="647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571920" y="4560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" dur="1" fill="hold"/>
                                        <p:tgtEl>
                                          <p:spTgt spid="5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0" y="3790800"/>
            <a:ext cx="9144000" cy="31291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314360" y="50482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333440" y="60580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C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772240" y="5029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C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791320" y="60390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696000" y="3432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0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66720" y="879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the symbol for carb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8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69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70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.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7" dur="1" fill="hold"/>
                                        <p:tgtEl>
                                          <p:spTgt spid="6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1" fill="hold"/>
                                        <p:tgtEl>
                                          <p:spTgt spid="6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75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571920" y="4264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8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4" dur="1" fill="hold"/>
                                        <p:tgtEl>
                                          <p:spTgt spid="7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800280" y="50482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78120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Le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200560" y="50101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Fl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29596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Ve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696000" y="3135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786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09480" y="479520"/>
            <a:ext cx="5181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hotosynthesis takes place in what part of the pla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3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94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95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. Le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3" dur="1" fill="hold"/>
                                        <p:tgtEl>
                                          <p:spTgt spid="7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9" dur="1" fill="hold"/>
                                        <p:tgtEl>
                                          <p:spTgt spid="7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75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8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99" name=""/>
          <p:cNvSpPr/>
          <p:nvPr/>
        </p:nvSpPr>
        <p:spPr>
          <a:xfrm>
            <a:off x="2350080" y="3511440"/>
            <a:ext cx="423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1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" dur="1" fill="hold"/>
                                        <p:tgtEl>
                                          <p:spTgt spid="7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75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200"/>
                            </p:stCondLst>
                            <p:childTnLst>
                              <p:par>
                                <p:cTn id="285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7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6700"/>
                            </p:stCondLst>
                            <p:childTnLst>
                              <p:par>
                                <p:cTn id="28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1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7200"/>
                            </p:stCondLst>
                            <p:childTnLst>
                              <p:par>
                                <p:cTn id="29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571920" y="3967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0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1" dur="1" fill="hold"/>
                                        <p:tgtEl>
                                          <p:spTgt spid="8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74304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Carbon Diox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33520" y="609588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Carbon Monox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410080" y="50482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295960" y="60768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Oxy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696000" y="2838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7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18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99960" y="460440"/>
            <a:ext cx="5981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released into the atmosphere during photosynthes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5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26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27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. Oxy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0" dur="1" fill="hold"/>
                                        <p:tgtEl>
                                          <p:spTgt spid="9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6" dur="1" fill="hold"/>
                                        <p:tgtEl>
                                          <p:spTgt spid="9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7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571920" y="36529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5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7" dur="1" fill="hold"/>
                                        <p:tgtEl>
                                          <p:spTgt spid="9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81900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Chloropla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00980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Chlor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5276880" y="50101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Cell W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525780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Leaf Parti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696000" y="2541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2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043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476280" y="266760"/>
            <a:ext cx="5715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the name of the microscopic green structures found in the leaf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0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51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52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  Chloropla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6" dur="1" fill="hold"/>
                                        <p:tgtEl>
                                          <p:spTgt spid="10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500"/>
                            </p:stCondLst>
                            <p:childTnLst>
                              <p:par>
                                <p:cTn id="3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2" dur="1" fill="hold"/>
                                        <p:tgtEl>
                                          <p:spTgt spid="10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75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571920" y="33386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0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3" dur="1" fill="hold"/>
                                        <p:tgtEl>
                                          <p:spTgt spid="1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473200" y="2724120"/>
            <a:ext cx="4622760" cy="11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rk E. Damo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"/>
          <p:cNvSpPr/>
          <p:nvPr/>
        </p:nvSpPr>
        <p:spPr>
          <a:xfrm>
            <a:off x="3630600" y="1717560"/>
            <a:ext cx="21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28040" y="4251240"/>
            <a:ext cx="32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321920" y="5851440"/>
            <a:ext cx="6901560" cy="1008720"/>
            <a:chOff x="1321920" y="5851440"/>
            <a:chExt cx="6901560" cy="1008720"/>
          </a:xfrm>
        </p:grpSpPr>
        <p:sp>
          <p:nvSpPr>
            <p:cNvPr id="102" name=""/>
            <p:cNvSpPr/>
            <p:nvPr/>
          </p:nvSpPr>
          <p:spPr>
            <a:xfrm>
              <a:off x="1321920" y="5851440"/>
              <a:ext cx="6901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© 2000 - All rights Reserved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894400" y="6461280"/>
              <a:ext cx="350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arkedamon@hotmail.c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500"/>
                            </p:stCondLst>
                            <p:childTnLst>
                              <p:par>
                                <p:cTn id="36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533520" y="49896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Oxygen and gluc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33520" y="6095880"/>
            <a:ext cx="36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Oxygen and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5468760" y="488952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Carbon dioxide and oxy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410080" y="6035760"/>
            <a:ext cx="34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Carbon dioxide and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6696000" y="220968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7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168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0" y="466560"/>
            <a:ext cx="6591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are the reactants in the in the photosynthesis react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5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76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77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. Carbon dioxi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2" dur="1" fill="hold"/>
                                        <p:tgtEl>
                                          <p:spTgt spid="1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500"/>
                            </p:stCondLst>
                            <p:childTnLst>
                              <p:par>
                                <p:cTn id="3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8" dur="1" fill="hold"/>
                                        <p:tgtEl>
                                          <p:spTgt spid="1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75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3571920" y="3059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5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9" dur="1" fill="hold"/>
                                        <p:tgtEl>
                                          <p:spTgt spid="12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047600" y="5010120"/>
            <a:ext cx="3657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CO</a:t>
            </a:r>
            <a:r>
              <a:rPr b="1" lang="en-US" sz="2400" spc="-1" strike="noStrike" baseline="-25000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1066680" y="6134040"/>
            <a:ext cx="221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CO</a:t>
            </a:r>
            <a:r>
              <a:rPr b="1" lang="en-US" sz="2400" spc="-1" strike="noStrike" baseline="-25000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5448240" y="5048280"/>
            <a:ext cx="289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C</a:t>
            </a:r>
            <a:r>
              <a:rPr b="1" lang="en-US" sz="2400" spc="-1" strike="noStrike" baseline="-25000">
                <a:solidFill>
                  <a:srgbClr val="ffcc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546732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696000" y="19130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2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293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685800" y="89856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the symbol for Carbon Dioxid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0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01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02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.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8" dur="1" fill="hold"/>
                                        <p:tgtEl>
                                          <p:spTgt spid="13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500"/>
                            </p:stCondLst>
                            <p:childTnLst>
                              <p:par>
                                <p:cTn id="4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4" dur="1" fill="hold"/>
                                        <p:tgtEl>
                                          <p:spTgt spid="13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0"/>
                            </p:stCondLst>
                            <p:childTnLst>
                              <p:par>
                                <p:cTn id="4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750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3571920" y="274464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0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5" dur="1" fill="hold"/>
                                        <p:tgtEl>
                                          <p:spTgt spid="13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25748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238400" y="60580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5562720" y="5029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5600880" y="60768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6696000" y="15987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7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418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0" y="270000"/>
            <a:ext cx="628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w many water molecules are present in the photosynthesis react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5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26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27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 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4" dur="1" fill="hold"/>
                                        <p:tgtEl>
                                          <p:spTgt spid="14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500"/>
                            </p:stCondLst>
                            <p:childTnLst>
                              <p:par>
                                <p:cTn id="4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0" dur="1" fill="hold"/>
                                        <p:tgtEl>
                                          <p:spTgt spid="14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0"/>
                            </p:stCondLst>
                            <p:childTnLst>
                              <p:par>
                                <p:cTn id="46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750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0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31" name=""/>
          <p:cNvSpPr/>
          <p:nvPr/>
        </p:nvSpPr>
        <p:spPr>
          <a:xfrm>
            <a:off x="2245320" y="3511440"/>
            <a:ext cx="47023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32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1" dur="1" fill="hold"/>
                                        <p:tgtEl>
                                          <p:spTgt spid="14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3000"/>
                            </p:stCondLst>
                            <p:childTnLst>
                              <p:par>
                                <p:cTn id="492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75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200"/>
                            </p:stCondLst>
                            <p:childTnLst>
                              <p:par>
                                <p:cTn id="496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8" dur="5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6700"/>
                            </p:stCondLst>
                            <p:childTnLst>
                              <p:par>
                                <p:cTn id="50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2" dur="5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7200"/>
                            </p:stCondLst>
                            <p:childTnLst>
                              <p:par>
                                <p:cTn id="5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6" dur="500"/>
                                        <p:tgtEl>
                                          <p:spTgt spid="1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3571920" y="24130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2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2" dur="1" fill="hold"/>
                                        <p:tgtEl>
                                          <p:spTgt spid="14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857160" y="50101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Oxy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819000" y="611496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Carbon Diox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5257800" y="5029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Gluc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5276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6696000" y="128412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9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550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476280" y="74304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converted to starch by the pla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7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58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59" name=""/>
          <p:cNvSpPr/>
          <p:nvPr/>
        </p:nvSpPr>
        <p:spPr>
          <a:xfrm>
            <a:off x="0" y="278604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 Gluc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1" dur="1" fill="hold"/>
                                        <p:tgtEl>
                                          <p:spTgt spid="15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2500"/>
                            </p:stCondLst>
                            <p:childTnLst>
                              <p:par>
                                <p:cTn id="5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7" dur="1" fill="hold"/>
                                        <p:tgtEl>
                                          <p:spTgt spid="15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0"/>
                            </p:stCondLst>
                            <p:childTnLst>
                              <p:par>
                                <p:cTn id="5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7500"/>
                            </p:stCondLst>
                            <p:childTnLst>
                              <p:par>
                                <p:cTn id="5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3571920" y="21351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7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0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8" dur="1" fill="hold"/>
                                        <p:tgtEl>
                                          <p:spTgt spid="16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Glucose and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533520" y="6093000"/>
            <a:ext cx="36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Glucose and St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5029200" y="5048280"/>
            <a:ext cx="38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Starch and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4952880" y="609588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Glucose and oxy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6696000" y="10065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4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675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0" y="574560"/>
            <a:ext cx="653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are the two products in the photosynthesis react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83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84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.  Glucose and oxy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7" dur="1" fill="hold"/>
                                        <p:tgtEl>
                                          <p:spTgt spid="16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2500"/>
                            </p:stCondLst>
                            <p:childTnLst>
                              <p:par>
                                <p:cTn id="5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3" dur="1" fill="hold"/>
                                        <p:tgtEl>
                                          <p:spTgt spid="16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0"/>
                            </p:stCondLst>
                            <p:childTnLst>
                              <p:par>
                                <p:cTn id="5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7500"/>
                            </p:stCondLst>
                            <p:childTnLst>
                              <p:par>
                                <p:cTn id="5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05" name="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13" name="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21" name="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30" name="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38" name="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47" name="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55" name="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63" name="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5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7000"/>
                            </p:stCondLst>
                            <p:childTnLst>
                              <p:par>
                                <p:cTn id="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7500"/>
                            </p:stCondLst>
                            <p:childTnLst>
                              <p:par>
                                <p:cTn id="7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80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85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3571920" y="1835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2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0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4" dur="1" fill="hold"/>
                                        <p:tgtEl>
                                          <p:spTgt spid="17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Cellular perspi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533520" y="60958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Cellular circ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495288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Cellular respi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4952880" y="6095880"/>
            <a:ext cx="361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Cellular dig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6696000" y="708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9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800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0" y="574560"/>
            <a:ext cx="6172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gar is broken down and energy is released during what proces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7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08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09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 Cellular respi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3" dur="1" fill="hold"/>
                                        <p:tgtEl>
                                          <p:spTgt spid="18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500"/>
                            </p:stCondLst>
                            <p:childTnLst>
                              <p:par>
                                <p:cTn id="5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9" dur="1" fill="hold"/>
                                        <p:tgtEl>
                                          <p:spTgt spid="18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5000"/>
                            </p:stCondLst>
                            <p:childTnLst>
                              <p:par>
                                <p:cTn id="60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7500"/>
                            </p:stCondLst>
                            <p:childTnLst>
                              <p:par>
                                <p:cTn id="6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3571920" y="1519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7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0" dur="1" fill="hold"/>
                                        <p:tgtEl>
                                          <p:spTgt spid="18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1047600" y="5029200"/>
            <a:ext cx="3657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CH</a:t>
            </a:r>
            <a:r>
              <a:rPr b="1" lang="en-US" sz="2400" spc="-1" strike="noStrike" baseline="-25000">
                <a:solidFill>
                  <a:srgbClr val="ffcc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1009800" y="6095880"/>
            <a:ext cx="2209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C</a:t>
            </a:r>
            <a:r>
              <a:rPr b="1" lang="en-US" sz="2400" spc="-1" strike="noStrike" baseline="-25000">
                <a:solidFill>
                  <a:srgbClr val="ffcc00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ffcc00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O</a:t>
            </a:r>
            <a:r>
              <a:rPr b="1" lang="en-US" sz="2400" spc="-1" strike="noStrike" baseline="-25000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5543640" y="50101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Glu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5524560" y="6114960"/>
            <a:ext cx="297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C</a:t>
            </a:r>
            <a:r>
              <a:rPr b="1" lang="en-US" sz="2400" spc="-1" strike="noStrike" baseline="-25000">
                <a:solidFill>
                  <a:srgbClr val="ffcc00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ffcc00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O</a:t>
            </a:r>
            <a:r>
              <a:rPr b="1" lang="en-US" sz="2400" spc="-1" strike="noStrike" baseline="-25000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6696000" y="4064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4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925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685800" y="9748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the symbol for Glucos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33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34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.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9" dur="1" fill="hold"/>
                                        <p:tgtEl>
                                          <p:spTgt spid="19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1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500"/>
                            </p:stCondLst>
                            <p:childTnLst>
                              <p:par>
                                <p:cTn id="6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5" dur="1" fill="hold"/>
                                        <p:tgtEl>
                                          <p:spTgt spid="19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5000"/>
                            </p:stCondLst>
                            <p:childTnLst>
                              <p:par>
                                <p:cTn id="6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7500"/>
                            </p:stCondLst>
                            <p:childTnLst>
                              <p:par>
                                <p:cTn id="64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3571920" y="1182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2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6" dur="1" fill="hold"/>
                                        <p:tgtEl>
                                          <p:spTgt spid="19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1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Light to Chem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743040" y="6076800"/>
            <a:ext cx="34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Light to He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5162400" y="5029200"/>
            <a:ext cx="37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Chemical to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4952880" y="6095880"/>
            <a:ext cx="36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Light to Mecha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6696000" y="69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9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050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0" y="247680"/>
            <a:ext cx="6343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energy transformation takes place during photosynthes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7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58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059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 Light to Chem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5" dur="1" fill="hold"/>
                                        <p:tgtEl>
                                          <p:spTgt spid="20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2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2500"/>
                            </p:stCondLst>
                            <p:childTnLst>
                              <p:par>
                                <p:cTn id="6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1" dur="1" fill="hold"/>
                                        <p:tgtEl>
                                          <p:spTgt spid="20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0"/>
                            </p:stCondLst>
                            <p:childTnLst>
                              <p:par>
                                <p:cTn id="67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7500"/>
                            </p:stCondLst>
                            <p:childTnLst>
                              <p:par>
                                <p:cTn id="6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0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2061" name="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2062" name="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9" name="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2070" name="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7" name="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2078" name="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6" name="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2087" name="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4" name="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2095" name="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3" name="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2104" name="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1" name="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2112" name="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9" name="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2120" name="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58480" cy="6910560"/>
          </a:xfrm>
          <a:prstGeom prst="rect">
            <a:avLst/>
          </a:prstGeom>
          <a:ln w="0">
            <a:noFill/>
          </a:ln>
        </p:spPr>
      </p:pic>
      <p:sp>
        <p:nvSpPr>
          <p:cNvPr id="2128" name=""/>
          <p:cNvSpPr/>
          <p:nvPr/>
        </p:nvSpPr>
        <p:spPr>
          <a:xfrm>
            <a:off x="1295280" y="2514600"/>
            <a:ext cx="67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YOU WIN $1 MILLION DOLLARS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0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2" dur="1" fill="hold"/>
                                        <p:tgtEl>
                                          <p:spTgt spid="20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2000"/>
                            </p:stCondLst>
                            <p:childTnLst>
                              <p:par>
                                <p:cTn id="70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25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0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3000"/>
                            </p:stCondLst>
                            <p:childTnLst>
                              <p:par>
                                <p:cTn id="7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0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0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3500"/>
                            </p:stCondLst>
                            <p:childTnLst>
                              <p:par>
                                <p:cTn id="7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0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0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4000"/>
                            </p:stCondLst>
                            <p:childTnLst>
                              <p:par>
                                <p:cTn id="7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4500"/>
                            </p:stCondLst>
                            <p:childTnLst>
                              <p:par>
                                <p:cTn id="7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5000"/>
                            </p:stCondLst>
                            <p:childTnLst>
                              <p:par>
                                <p:cTn id="7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5500"/>
                            </p:stCondLst>
                            <p:childTnLst>
                              <p:par>
                                <p:cTn id="74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71920" y="54864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506736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Photosyn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6095880"/>
            <a:ext cx="302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Phot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257800" y="506736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Syn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29596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Ba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696000" y="43578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85800" y="1203480"/>
            <a:ext cx="5181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 Photosyn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247680"/>
            <a:ext cx="62676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the name of the process that plants undergo to make their foo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1" fill="hold"/>
                                        <p:tgtEl>
                                          <p:spTgt spid="2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1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7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571920" y="5172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" fill="hold"/>
                                        <p:tgtEl>
                                          <p:spTgt spid="3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43040" y="50101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Exerc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19000" y="60958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238720" y="5029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25780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The S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96000" y="4043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71680" y="72720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ere do plants get energy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.  The S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1" fill="hold"/>
                                        <p:tgtEl>
                                          <p:spTgt spid="4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1" fill="hold"/>
                                        <p:tgtEl>
                                          <p:spTgt spid="4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75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71920" y="4875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1" fill="hold"/>
                                        <p:tgtEl>
                                          <p:spTgt spid="4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4304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Oxy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914400" y="613404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353200" y="51055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Di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29596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696000" y="3746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99960" y="517680"/>
            <a:ext cx="5543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verything in our world is made of wha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.  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" dur="1" fill="hold"/>
                                        <p:tgtEl>
                                          <p:spTgt spid="5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500"/>
                            </p:stCondLst>
                            <p:childTnLst>
                              <p:par>
                                <p:cTn id="1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" dur="1" fill="hold"/>
                                        <p:tgtEl>
                                          <p:spTgt spid="5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75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0T23:03:43Z</dcterms:created>
  <dc:creator>Mark E. Damon</dc:creator>
  <dc:description/>
  <dc:language>en-US</dc:language>
  <cp:lastModifiedBy>aaron venables</cp:lastModifiedBy>
  <dcterms:modified xsi:type="dcterms:W3CDTF">2007-03-17T22:00:41Z</dcterms:modified>
  <cp:revision>28</cp:revision>
  <dc:subject/>
  <dc:title>No Slide Title</dc:title>
</cp:coreProperties>
</file>